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850-3C5B-4B85-8288-44D9B48E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5EC-FAD5-42C1-9DED-826CE232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49C-13DB-4078-95ED-50BF607F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5312-699E-4A5B-B7B4-B7A7752B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975-C653-470D-A042-6858A6ED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1CB-AC36-4A4B-9E45-1CBFE55B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AD24-39CE-4B02-92D1-89DB9C44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EFC-DAE2-4E31-9EB5-C076BEF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E2E-D51D-4B84-9E84-7AA4B2FE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FB2-D165-4670-8031-5B9BB649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489-9BEF-4939-8E54-4DC041C7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EB5-5AAD-4F34-A00D-1982CEB4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FB58-295C-4F39-92B3-DA82D0143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533520"/>
          <a:ext cx="7848360" cy="6110280"/>
        </p:xfrm>
        <a:graphic>
          <a:graphicData uri="http://schemas.openxmlformats.org/drawingml/2006/table">
            <a:tbl>
              <a:tblPr/>
              <a:tblGrid>
                <a:gridCol w="2133360"/>
                <a:gridCol w="1371600"/>
                <a:gridCol w="1295640"/>
                <a:gridCol w="1477800"/>
                <a:gridCol w="156996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Oce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Des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Fo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m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b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and wh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oufl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they 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le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20:11:12Z</dcterms:created>
  <dc:creator>Judith M Paradis</dc:creator>
  <dc:description/>
  <dc:language>en-US</dc:language>
  <cp:lastModifiedBy>Judith M Paradis</cp:lastModifiedBy>
  <dcterms:modified xsi:type="dcterms:W3CDTF">2008-02-28T20:24:55Z</dcterms:modified>
  <cp:revision>2</cp:revision>
  <dc:subject/>
  <dc:title>Slide 1</dc:title>
</cp:coreProperties>
</file>